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E69-7432-4F86-A333-3AC43443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2F7-5C60-41E1-A1A3-4B0DD21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B9E-74FC-4B04-A531-A0A0D257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56A-4984-45DE-AC5D-1883016E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3044-0070-4886-A66A-79603B3F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8C0-11F7-411B-9A33-347D3B6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761-DF08-44A7-B195-D9D1D0E7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F7E4-8000-473F-A2C0-64C07F5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07EB-A86D-4C1A-8A80-92622F5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C37-1D66-4773-ADBE-77DCD98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4B4-4BA7-4E80-9AE6-05FF935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A5E-5356-4B48-8D3C-AA446BCA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283A-3870-4323-9B6C-81A581A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19A5-5380-4957-9B69-0D75E01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8453-9149-4C80-AAEB-82F4CDA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24C9-2666-4CD9-BF1C-D19E2044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A54F-880A-4679-A1EF-60CA867E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2F5-73E1-46A8-BEB7-D3A3BBB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D18-4BF0-487C-99CE-BDE9F43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B84-A6FC-4B11-9BC4-CDB665C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B41-E1FE-4865-B303-CE7A99D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EAD-F3EC-4772-B3D2-1C04517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F85-6A71-4887-B192-C8E694B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79F-F55C-4B40-943E-364BEA8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1067E-1BFA-4C97-A2BA-4D631B149C95}" type="datetime">
              <a:rPr b="0" lang="it-IT" sz="13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3679B-5F62-473D-A071-930BD345A73C}" type="slidenum">
              <a:rPr b="0" lang="it-IT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8B042-F840-4030-B77F-B56ADC45C966}" type="datetime">
              <a:rPr b="0" lang="it-IT" sz="13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C486D-2D43-4870-8306-259C62F4B6A0}" type="slidenum">
              <a:rPr b="0" lang="it-IT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tangolo 2"/>
          <p:cNvSpPr/>
          <p:nvPr/>
        </p:nvSpPr>
        <p:spPr>
          <a:xfrm>
            <a:off x="2610000" y="1902600"/>
            <a:ext cx="520992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6600" spc="-1" strike="noStrike">
                <a:solidFill>
                  <a:srgbClr val="1abaed"/>
                </a:solidFill>
                <a:latin typeface="Calibri"/>
                <a:ea typeface="Arial"/>
              </a:rPr>
              <a:t>BLUE KE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ttangolo 3"/>
          <p:cNvSpPr/>
          <p:nvPr/>
        </p:nvSpPr>
        <p:spPr>
          <a:xfrm>
            <a:off x="954000" y="1730880"/>
            <a:ext cx="84661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7585a"/>
                </a:solidFill>
                <a:latin typeface="Calibri Light"/>
              </a:rPr>
              <a:t>FINAL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Infor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tangolo 3"/>
          <p:cNvSpPr/>
          <p:nvPr/>
        </p:nvSpPr>
        <p:spPr>
          <a:xfrm>
            <a:off x="1060560" y="4542480"/>
            <a:ext cx="85690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57585a"/>
                </a:solidFill>
                <a:latin typeface="Calibri Light"/>
              </a:rPr>
              <a:t>Ancona – </a:t>
            </a:r>
            <a:r>
              <a:rPr b="0" lang="en-GB" sz="1800" spc="-1" strike="noStrike">
                <a:solidFill>
                  <a:srgbClr val="57585a"/>
                </a:solidFill>
                <a:latin typeface="Calibri Light"/>
              </a:rPr>
              <a:t>Italy, 26</a:t>
            </a:r>
            <a:r>
              <a:rPr b="0" lang="en-GB" sz="1800" spc="-1" strike="noStrike" baseline="30000">
                <a:solidFill>
                  <a:srgbClr val="57585a"/>
                </a:solidFill>
                <a:latin typeface="Calibri Light"/>
              </a:rPr>
              <a:t>th</a:t>
            </a:r>
            <a:r>
              <a:rPr b="0" lang="en-GB" sz="1800" spc="-1" strike="noStrike">
                <a:solidFill>
                  <a:srgbClr val="57585a"/>
                </a:solidFill>
                <a:latin typeface="Calibri Light"/>
              </a:rPr>
              <a:t> September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562880" y="7113600"/>
            <a:ext cx="250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00b0f0"/>
                </a:solidFill>
                <a:latin typeface="Calibri"/>
              </a:rPr>
              <a:t>www.italy-croatia/web/blue-ke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AD12C-AA90-4936-806C-BAC6B8B143DF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sellaDiTesto 6"/>
          <p:cNvSpPr/>
          <p:nvPr/>
        </p:nvSpPr>
        <p:spPr>
          <a:xfrm>
            <a:off x="382680" y="1292400"/>
            <a:ext cx="95184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Between plain and mountains: Gemona and Ven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of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vidale del Friuli vis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2" descr="Immagine che contiene montagna, cielo, natura, albero&#10;&#10;Descrizione generata automaticamente"/>
          <p:cNvPicPr/>
          <p:nvPr/>
        </p:nvPicPr>
        <p:blipFill>
          <a:blip r:embed="rId3"/>
          <a:stretch/>
        </p:blipFill>
        <p:spPr>
          <a:xfrm>
            <a:off x="382680" y="4060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35" name="Immagine 7" descr="Immagine che contiene esterni, cielo, edificio, ponte&#10;&#10;Descrizione generata automaticamente"/>
          <p:cNvPicPr/>
          <p:nvPr/>
        </p:nvPicPr>
        <p:blipFill>
          <a:blip r:embed="rId4"/>
          <a:stretch/>
        </p:blipFill>
        <p:spPr>
          <a:xfrm>
            <a:off x="6518160" y="4024440"/>
            <a:ext cx="2711520" cy="181296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9" descr="Immagine che contiene pavimento, interni, edificio, tavolo&#10;&#10;Descrizione generata automaticamente"/>
          <p:cNvPicPr/>
          <p:nvPr/>
        </p:nvPicPr>
        <p:blipFill>
          <a:blip r:embed="rId5"/>
          <a:stretch/>
        </p:blipFill>
        <p:spPr>
          <a:xfrm>
            <a:off x="3324240" y="4037040"/>
            <a:ext cx="27795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3A82D-563B-4917-94E7-E3710598F7ED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asellaDiTesto 6"/>
          <p:cNvSpPr/>
          <p:nvPr/>
        </p:nvSpPr>
        <p:spPr>
          <a:xfrm>
            <a:off x="458640" y="1166760"/>
            <a:ext cx="9518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ustrial Craft School Sibe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/03/2019-30/03/2019 (cla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/04/2019-24/05/2019 (traineeship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IS Brignoli-Einaudi-Marconi Gradisca (GO) 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 Luigi Einaudi Staranzano (GO), in cooperation with ENAIP FVG Pasian di Prato (U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tecarlo Yachts Monfalcone (G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MMOD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 Figli del Popolo - Complesso Ricettivo “Semente Nova”,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41" name="Immagine 2" descr="Immagine che contiene cielo, strada, esterni, gara di atletica&#10;&#10;Descrizione generata automaticamente"/>
          <p:cNvPicPr/>
          <p:nvPr/>
        </p:nvPicPr>
        <p:blipFill>
          <a:blip r:embed="rId3"/>
          <a:stretch/>
        </p:blipFill>
        <p:spPr>
          <a:xfrm>
            <a:off x="227160" y="48546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42" name="Immagine 4" descr="Immagine che contiene cielo, strada, esterni, edificio&#10;&#10;Descrizione generata automaticamente"/>
          <p:cNvPicPr/>
          <p:nvPr/>
        </p:nvPicPr>
        <p:blipFill>
          <a:blip r:embed="rId4"/>
          <a:stretch/>
        </p:blipFill>
        <p:spPr>
          <a:xfrm>
            <a:off x="3517920" y="4843440"/>
            <a:ext cx="2857320" cy="1611360"/>
          </a:xfrm>
          <a:prstGeom prst="rect">
            <a:avLst/>
          </a:prstGeom>
          <a:ln w="0">
            <a:noFill/>
          </a:ln>
        </p:spPr>
      </p:pic>
      <p:pic>
        <p:nvPicPr>
          <p:cNvPr id="143" name="Immagine 7" descr="Immagine che contiene esterni, cielo, edificio, edificio governativo&#10;&#10;Descrizione generata automaticamente"/>
          <p:cNvPicPr/>
          <p:nvPr/>
        </p:nvPicPr>
        <p:blipFill>
          <a:blip r:embed="rId5"/>
          <a:stretch/>
        </p:blipFill>
        <p:spPr>
          <a:xfrm>
            <a:off x="6865920" y="4853160"/>
            <a:ext cx="2178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FD295-4B8B-4746-B8BD-87023E1F212E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asellaDiTesto 6"/>
          <p:cNvSpPr/>
          <p:nvPr/>
        </p:nvSpPr>
        <p:spPr>
          <a:xfrm>
            <a:off x="382680" y="1292400"/>
            <a:ext cx="9518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ka Labor, Dario Baranovic, Lucijan Sp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onora Rupic, Jozo Pu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iovanni Rieppi, Laura Pahor, Mauro Gardenal, Barbara Dainelli (ENAIP FVG)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6F92C-8D43-4AA9-949E-CE40A92B53D0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sellaDiTesto 6"/>
          <p:cNvSpPr/>
          <p:nvPr/>
        </p:nvSpPr>
        <p:spPr>
          <a:xfrm>
            <a:off x="382680" y="1292400"/>
            <a:ext cx="951840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ree-phase asynchronous mo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al aspects and  working princi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and electric fie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que in electric mo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working in the Compan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and cabling of electrical and electronics components on board sh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F4D0B-2B8A-4704-8341-47E82C9E9B76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sellaDiTesto 6"/>
          <p:cNvSpPr/>
          <p:nvPr/>
        </p:nvSpPr>
        <p:spPr>
          <a:xfrm>
            <a:off x="382680" y="1292400"/>
            <a:ext cx="95184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to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to V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to MUCA - Museo della cantieristica Monfalc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56" name="Immagine 2" descr="Immagine che contiene montagna, esterni, barca, acqua&#10;&#10;Descrizione generata automaticamente"/>
          <p:cNvPicPr/>
          <p:nvPr/>
        </p:nvPicPr>
        <p:blipFill>
          <a:blip r:embed="rId3"/>
          <a:stretch/>
        </p:blipFill>
        <p:spPr>
          <a:xfrm>
            <a:off x="382680" y="4156200"/>
            <a:ext cx="2943000" cy="1654200"/>
          </a:xfrm>
          <a:prstGeom prst="rect">
            <a:avLst/>
          </a:prstGeom>
          <a:ln w="0">
            <a:noFill/>
          </a:ln>
        </p:spPr>
      </p:pic>
      <p:pic>
        <p:nvPicPr>
          <p:cNvPr id="157" name="Immagine 4" descr="Immagine che contiene edificio, interni, tavolo, pavimento&#10;&#10;Descrizione generata automaticamente"/>
          <p:cNvPicPr/>
          <p:nvPr/>
        </p:nvPicPr>
        <p:blipFill>
          <a:blip r:embed="rId4"/>
          <a:stretch/>
        </p:blipFill>
        <p:spPr>
          <a:xfrm>
            <a:off x="3666960" y="4149720"/>
            <a:ext cx="2217960" cy="166068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Immagine che contiene cielo, esterni, edificio, strada&#10;&#10;Descrizione generata automaticamente"/>
          <p:cNvPicPr/>
          <p:nvPr/>
        </p:nvPicPr>
        <p:blipFill>
          <a:blip r:embed="rId5"/>
          <a:stretch/>
        </p:blipFill>
        <p:spPr>
          <a:xfrm>
            <a:off x="6365880" y="4162320"/>
            <a:ext cx="2771640" cy="164808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9" descr="Immagine che contiene interni, pavimento, edificio, parete&#10;&#10;Descrizione generata automaticamente"/>
          <p:cNvPicPr/>
          <p:nvPr/>
        </p:nvPicPr>
        <p:blipFill>
          <a:blip r:embed="rId6"/>
          <a:stretch/>
        </p:blipFill>
        <p:spPr>
          <a:xfrm>
            <a:off x="7155000" y="1531800"/>
            <a:ext cx="2997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E99AD-1FA1-4C5D-AC38-ECD9D9E77357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tangolo 2"/>
          <p:cNvSpPr/>
          <p:nvPr/>
        </p:nvSpPr>
        <p:spPr>
          <a:xfrm>
            <a:off x="615960" y="925200"/>
            <a:ext cx="946008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STUDENT MOBILITY ACTIV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Incoming groups to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ieste, Udine,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2" descr="Immagine che contiene montagna, esterni, barca, acqua&#10;&#10;Descrizione generata automaticamente"/>
          <p:cNvPicPr/>
          <p:nvPr/>
        </p:nvPicPr>
        <p:blipFill>
          <a:blip r:embed="rId3"/>
          <a:stretch/>
        </p:blipFill>
        <p:spPr>
          <a:xfrm>
            <a:off x="525600" y="4146480"/>
            <a:ext cx="2512800" cy="141300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4" descr="Immagine che contiene edificio, cielo, esterni, orologio&#10;&#10;Descrizione generata automaticamente"/>
          <p:cNvPicPr/>
          <p:nvPr/>
        </p:nvPicPr>
        <p:blipFill>
          <a:blip r:embed="rId4"/>
          <a:stretch/>
        </p:blipFill>
        <p:spPr>
          <a:xfrm>
            <a:off x="3673440" y="414504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Immagine 6" descr="Immagine che contiene terra, esterni, edificio, cielo&#10;&#10;Descrizione generata automaticamente"/>
          <p:cNvPicPr/>
          <p:nvPr/>
        </p:nvPicPr>
        <p:blipFill>
          <a:blip r:embed="rId5"/>
          <a:stretch/>
        </p:blipFill>
        <p:spPr>
          <a:xfrm>
            <a:off x="7018200" y="4145040"/>
            <a:ext cx="21193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FBCA3-0FE8-431D-BC88-3BF6DB1C66A1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328680" y="1300320"/>
            <a:ext cx="951876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ffic Technical School Sibeni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7/03/2019-30/03/2019 (cla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8/04/2019-24/05/2019 (traineeshi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stituto Nautico Tomaso di Savoia Duca di Genova – Luigi Galvani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cean srl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COMMOD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pera Figli del Popolo - Complesso Ricettivo “Semente Nova”,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4" descr="Immagine che contiene albero, esterni, edificio, cielo&#10;&#10;Descrizione generata automaticamente"/>
          <p:cNvPicPr/>
          <p:nvPr/>
        </p:nvPicPr>
        <p:blipFill>
          <a:blip r:embed="rId3"/>
          <a:stretch/>
        </p:blipFill>
        <p:spPr>
          <a:xfrm>
            <a:off x="154080" y="4143240"/>
            <a:ext cx="2855880" cy="186228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7" descr="Immagine che contiene barca, acqua, cielo, esterni&#10;&#10;Descrizione generata automaticamente"/>
          <p:cNvPicPr/>
          <p:nvPr/>
        </p:nvPicPr>
        <p:blipFill>
          <a:blip r:embed="rId4"/>
          <a:stretch/>
        </p:blipFill>
        <p:spPr>
          <a:xfrm>
            <a:off x="3807000" y="4748040"/>
            <a:ext cx="1950840" cy="124632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9" descr="Immagine che contiene esterni, cielo, edificio, edificio governativo&#10;&#10;Descrizione generata automaticamente"/>
          <p:cNvPicPr/>
          <p:nvPr/>
        </p:nvPicPr>
        <p:blipFill>
          <a:blip r:embed="rId5"/>
          <a:stretch/>
        </p:blipFill>
        <p:spPr>
          <a:xfrm>
            <a:off x="6554880" y="4094280"/>
            <a:ext cx="258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E03F8-F0FA-4A20-9AD4-946BDF76ADC8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6"/>
          <p:cNvSpPr/>
          <p:nvPr/>
        </p:nvSpPr>
        <p:spPr>
          <a:xfrm>
            <a:off x="382680" y="1292400"/>
            <a:ext cx="9518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akov Bezic, Bruno Ivicin, Josip Rad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vona Ivicin, Natasa Gaspe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tal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ugenia Forleo, Umberto Sant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6D4F0-DBF9-45E5-92E0-4A1187AED14B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6"/>
          <p:cNvSpPr/>
          <p:nvPr/>
        </p:nvSpPr>
        <p:spPr>
          <a:xfrm>
            <a:off x="382680" y="1292400"/>
            <a:ext cx="95184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ience of nav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cture and construction of the maritime means of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on school vessel: coastal navigation and electronic instrumentation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itime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31324-D939-48AA-AF33-A971F3BEA598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sellaDiTesto 6"/>
          <p:cNvSpPr/>
          <p:nvPr/>
        </p:nvSpPr>
        <p:spPr>
          <a:xfrm>
            <a:off x="382680" y="1292400"/>
            <a:ext cx="951840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To the origins of mankind: Aquileia and G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of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to V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 Giusto and Molo Audace vi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2" descr="Immagine che contiene edificio, esterni, acqua, barca&#10;&#10;Descrizione generata automaticamente"/>
          <p:cNvPicPr/>
          <p:nvPr/>
        </p:nvPicPr>
        <p:blipFill>
          <a:blip r:embed="rId3"/>
          <a:stretch/>
        </p:blipFill>
        <p:spPr>
          <a:xfrm>
            <a:off x="258840" y="4405320"/>
            <a:ext cx="2952720" cy="154296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4" descr="Immagine che contiene edificio, cielo, strada, esterni&#10;&#10;Descrizione generata automaticamente"/>
          <p:cNvPicPr/>
          <p:nvPr/>
        </p:nvPicPr>
        <p:blipFill>
          <a:blip r:embed="rId4"/>
          <a:stretch/>
        </p:blipFill>
        <p:spPr>
          <a:xfrm>
            <a:off x="3747960" y="4405320"/>
            <a:ext cx="231480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7" descr="Immagine che contiene edificio, barca, acqua, esterni&#10;&#10;Descrizione generata automaticamente"/>
          <p:cNvPicPr/>
          <p:nvPr/>
        </p:nvPicPr>
        <p:blipFill>
          <a:blip r:embed="rId5"/>
          <a:stretch/>
        </p:blipFill>
        <p:spPr>
          <a:xfrm>
            <a:off x="6686640" y="4359240"/>
            <a:ext cx="2770200" cy="1550880"/>
          </a:xfrm>
          <a:prstGeom prst="rect">
            <a:avLst/>
          </a:prstGeom>
          <a:ln w="0">
            <a:noFill/>
          </a:ln>
        </p:spPr>
      </p:pic>
      <p:pic>
        <p:nvPicPr>
          <p:cNvPr id="114" name="Immagine 9" descr="Immagine che contiene edificio, albero, esterni, erba&#10;&#10;Descrizione generata automaticamente"/>
          <p:cNvPicPr/>
          <p:nvPr/>
        </p:nvPicPr>
        <p:blipFill>
          <a:blip r:embed="rId6"/>
          <a:stretch/>
        </p:blipFill>
        <p:spPr>
          <a:xfrm>
            <a:off x="7121520" y="2233440"/>
            <a:ext cx="2973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43F96-B34C-4C84-9BE2-4A3BD832AC2C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asellaDiTesto 6"/>
          <p:cNvSpPr/>
          <p:nvPr/>
        </p:nvSpPr>
        <p:spPr>
          <a:xfrm>
            <a:off x="328680" y="1300320"/>
            <a:ext cx="951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hnical School P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1/03/2019 - 14/04/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to Statale di Istruzione Superiore Arturo Malignani U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eainox srl Reana del Rojale (Ud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MMODATION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ucandato statale Collegio Uccellis U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2" descr=""/>
          <p:cNvPicPr/>
          <p:nvPr/>
        </p:nvPicPr>
        <p:blipFill>
          <a:blip r:embed="rId3"/>
          <a:stretch/>
        </p:blipFill>
        <p:spPr>
          <a:xfrm>
            <a:off x="328680" y="426564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Immagine 4" descr="Immagine che contiene elettronico&#10;&#10;Descrizione generata automaticamente"/>
          <p:cNvPicPr/>
          <p:nvPr/>
        </p:nvPicPr>
        <p:blipFill>
          <a:blip r:embed="rId4"/>
          <a:stretch/>
        </p:blipFill>
        <p:spPr>
          <a:xfrm>
            <a:off x="3747960" y="4265640"/>
            <a:ext cx="1576440" cy="1574640"/>
          </a:xfrm>
          <a:prstGeom prst="rect">
            <a:avLst/>
          </a:prstGeom>
          <a:ln w="0">
            <a:noFill/>
          </a:ln>
        </p:spPr>
      </p:pic>
      <p:pic>
        <p:nvPicPr>
          <p:cNvPr id="121" name="Immagine 7" descr="Immagine che contiene edificio, erba, esterni, casa&#10;&#10;Descrizione generata automaticamente"/>
          <p:cNvPicPr/>
          <p:nvPr/>
        </p:nvPicPr>
        <p:blipFill>
          <a:blip r:embed="rId5"/>
          <a:stretch/>
        </p:blipFill>
        <p:spPr>
          <a:xfrm>
            <a:off x="5789520" y="4265640"/>
            <a:ext cx="3819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A433D-1943-4C88-B044-28D5809DF413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asellaDiTesto 6"/>
          <p:cNvSpPr/>
          <p:nvPr/>
        </p:nvSpPr>
        <p:spPr>
          <a:xfrm>
            <a:off x="382680" y="1292400"/>
            <a:ext cx="9518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lip Licul, Karlo Ritosa, Antonio Pl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ordana Mofardin, Iva Popovic, Vanda Brandic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tal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usto Senatore, Mauro Fas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316A5-1F8C-4E55-A3A1-AC4C8552D9A6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sellaDiTesto 6"/>
          <p:cNvSpPr/>
          <p:nvPr/>
        </p:nvSpPr>
        <p:spPr>
          <a:xfrm>
            <a:off x="382680" y="1292400"/>
            <a:ext cx="951840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ydraulic system and flu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ure generation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tribution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ing and transformation of me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dering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 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curity rules in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6:39:05Z</dcterms:created>
  <dc:creator>Roberto Ciocca</dc:creator>
  <dc:description/>
  <dc:language>en-US</dc:language>
  <cp:lastModifiedBy>Microsoft Office User</cp:lastModifiedBy>
  <cp:lastPrinted>2019-08-29T14:20:31Z</cp:lastPrinted>
  <dcterms:modified xsi:type="dcterms:W3CDTF">2019-09-18T13:28:15Z</dcterms:modified>
  <cp:revision>235</cp:revision>
  <dc:subject/>
  <dc:title>Presentazione standard di PowerPoint</dc:title>
</cp:coreProperties>
</file>